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36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1.png" ContentType="image/png"/>
  <Override PartName="/ppt/media/image12.jpeg" ContentType="image/jpe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5.jpeg" ContentType="image/jpeg"/>
  <Override PartName="/ppt/media/image42.wmf" ContentType="image/x-wmf"/>
  <Override PartName="/ppt/media/image43.wmf" ContentType="image/x-wmf"/>
  <Override PartName="/ppt/media/image13.jpeg" ContentType="image/jpeg"/>
  <Override PartName="/ppt/media/image33.png" ContentType="image/png"/>
  <Override PartName="/ppt/media/image44.wmf" ContentType="image/x-wmf"/>
  <Override PartName="/ppt/media/image37.wmf" ContentType="image/x-wmf"/>
  <Override PartName="/ppt/media/image30.jpeg" ContentType="image/jpeg"/>
  <Override PartName="/ppt/media/image7.wmf" ContentType="image/x-wmf"/>
  <Override PartName="/ppt/media/image11.wmf" ContentType="image/x-wmf"/>
  <Override PartName="/ppt/media/image17.jpeg" ContentType="image/jpeg"/>
  <Override PartName="/ppt/media/image45.wmf" ContentType="image/x-wmf"/>
  <Override PartName="/ppt/media/image31.jpeg" ContentType="image/jpeg"/>
  <Override PartName="/ppt/media/image10.wmf" ContentType="image/x-wmf"/>
  <Override PartName="/ppt/media/image6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342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8160" cy="4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5440" y="0"/>
            <a:ext cx="3008520" cy="4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416120"/>
            <a:ext cx="5086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08160" cy="4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5440" y="8829720"/>
            <a:ext cx="3008520" cy="4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BF015E-4016-4D51-B215-A45CD02941C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3400" y="4416120"/>
            <a:ext cx="5086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Receding hori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F7E-4F4C-485C-A7AA-E7F37891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934-7DA9-493B-8CE2-43147080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EAF-0394-4B4C-876D-BC1427FF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430-CCD0-4647-89F2-1C9BAE65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CDC-A364-479E-ACCB-3800D5C5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938-4897-4F68-9CA7-D4B785C2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A41-49E7-4A8C-8BB2-47FE498D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A4B-88F5-4954-BD6F-D66C5D38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140-A40D-4671-85EF-C34C4D74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06D-B44C-456B-91EE-1549A4ED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654-43E6-4A74-B8E4-1F0FBD93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74E-C3DC-4A01-B904-1D6F23C4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04D7-FC78-4934-BC55-5EE5EB4CD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29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ability and Feasibility of Constrained Optimal Contro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134960"/>
            <a:ext cx="77724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cal Gri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Control Laboratory ETH 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falogo_color" descr=""/>
          <p:cNvPicPr/>
          <p:nvPr/>
        </p:nvPicPr>
        <p:blipFill>
          <a:blip r:embed="rId1"/>
          <a:stretch/>
        </p:blipFill>
        <p:spPr>
          <a:xfrm>
            <a:off x="160200" y="5837400"/>
            <a:ext cx="1636920" cy="850680"/>
          </a:xfrm>
          <a:prstGeom prst="rect">
            <a:avLst/>
          </a:prstGeom>
          <a:ln w="0">
            <a:noFill/>
          </a:ln>
        </p:spPr>
      </p:pic>
      <p:pic>
        <p:nvPicPr>
          <p:cNvPr id="51" name="eth-full" descr=""/>
          <p:cNvPicPr/>
          <p:nvPr/>
        </p:nvPicPr>
        <p:blipFill>
          <a:blip r:embed="rId2"/>
          <a:stretch/>
        </p:blipFill>
        <p:spPr>
          <a:xfrm>
            <a:off x="5583240" y="6157800"/>
            <a:ext cx="338292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28088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teratively computing and applying only the first input,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eding Horizon Control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jectory is obt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fig_DI4" descr=""/>
          <p:cNvPicPr/>
          <p:nvPr/>
        </p:nvPicPr>
        <p:blipFill>
          <a:blip r:embed="rId1"/>
          <a:stretch/>
        </p:blipFill>
        <p:spPr>
          <a:xfrm>
            <a:off x="0" y="2908440"/>
            <a:ext cx="9144000" cy="3949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ceding Horizon Contro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28412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closed-loop stability and feasibility are not guarante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ig_DI5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 flipV="1">
            <a:off x="3715920" y="3598560"/>
            <a:ext cx="2336760" cy="725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8640" y="380844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easibl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teps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ceding Horizon Contro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4508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feasible positive invariant set      for the unconstrained controller around the orig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ix 1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horiz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ng enough to reach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ix 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e      as a terminal set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05560" y="3362400"/>
            <a:ext cx="2438280" cy="785880"/>
            <a:chOff x="5605560" y="3362400"/>
            <a:chExt cx="2438280" cy="785880"/>
          </a:xfrm>
        </p:grpSpPr>
        <p:sp>
          <p:nvSpPr>
            <p:cNvPr id="110" name=""/>
            <p:cNvSpPr/>
            <p:nvPr/>
          </p:nvSpPr>
          <p:spPr>
            <a:xfrm>
              <a:off x="5605560" y="3386160"/>
              <a:ext cx="20862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35960" y="3681720"/>
              <a:ext cx="188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99960" y="336240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(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5400" y="3443400"/>
              <a:ext cx="1690560" cy="639720"/>
            </a:xfrm>
            <a:custGeom>
              <a:avLst/>
              <a:gdLst/>
              <a:ahLst/>
              <a:rect l="l" t="t" r="r" b="b"/>
              <a:pathLst>
                <a:path w="856" h="403">
                  <a:moveTo>
                    <a:pt x="0" y="240"/>
                  </a:moveTo>
                  <a:cubicBezTo>
                    <a:pt x="26" y="288"/>
                    <a:pt x="52" y="337"/>
                    <a:pt x="134" y="360"/>
                  </a:cubicBezTo>
                  <a:cubicBezTo>
                    <a:pt x="216" y="383"/>
                    <a:pt x="380" y="403"/>
                    <a:pt x="492" y="381"/>
                  </a:cubicBezTo>
                  <a:cubicBezTo>
                    <a:pt x="604" y="359"/>
                    <a:pt x="760" y="273"/>
                    <a:pt x="808" y="226"/>
                  </a:cubicBezTo>
                  <a:cubicBezTo>
                    <a:pt x="856" y="179"/>
                    <a:pt x="806" y="129"/>
                    <a:pt x="780" y="100"/>
                  </a:cubicBezTo>
                  <a:cubicBezTo>
                    <a:pt x="754" y="71"/>
                    <a:pt x="721" y="66"/>
                    <a:pt x="653" y="51"/>
                  </a:cubicBezTo>
                  <a:cubicBezTo>
                    <a:pt x="585" y="36"/>
                    <a:pt x="422" y="0"/>
                    <a:pt x="372" y="8"/>
                  </a:cubicBezTo>
                  <a:cubicBezTo>
                    <a:pt x="322" y="16"/>
                    <a:pt x="342" y="70"/>
                    <a:pt x="351" y="100"/>
                  </a:cubicBezTo>
                  <a:cubicBezTo>
                    <a:pt x="360" y="130"/>
                    <a:pt x="403" y="174"/>
                    <a:pt x="429" y="191"/>
                  </a:cubicBezTo>
                  <a:cubicBezTo>
                    <a:pt x="455" y="208"/>
                    <a:pt x="480" y="206"/>
                    <a:pt x="506" y="205"/>
                  </a:cubicBezTo>
                </a:path>
              </a:pathLst>
            </a:custGeom>
            <a:noFill/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13800" y="3676680"/>
              <a:ext cx="189000" cy="1526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7710480" y="3600720"/>
            <a:ext cx="333360" cy="27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10480" y="3600720"/>
                      <a:ext cx="333360" cy="2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7" name=""/>
          <p:cNvSpPr/>
          <p:nvPr/>
        </p:nvSpPr>
        <p:spPr>
          <a:xfrm>
            <a:off x="5608800" y="4627440"/>
            <a:ext cx="2019240" cy="636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3080" y="4627440"/>
            <a:ext cx="3735720" cy="636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ow can we guarantee stability &amp; feasibility 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58880" y="3433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66960" y="3787920"/>
            <a:ext cx="1890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17800" y="3309840"/>
            <a:ext cx="3809880" cy="1079640"/>
          </a:xfrm>
          <a:custGeom>
            <a:avLst/>
            <a:gdLst/>
            <a:ahLst/>
            <a:rect l="l" t="t" r="r" b="b"/>
            <a:pathLst>
              <a:path w="1584" h="696">
                <a:moveTo>
                  <a:pt x="1584" y="256"/>
                </a:moveTo>
                <a:cubicBezTo>
                  <a:pt x="1512" y="128"/>
                  <a:pt x="1440" y="0"/>
                  <a:pt x="1248" y="64"/>
                </a:cubicBezTo>
                <a:cubicBezTo>
                  <a:pt x="1056" y="128"/>
                  <a:pt x="640" y="584"/>
                  <a:pt x="432" y="640"/>
                </a:cubicBezTo>
                <a:cubicBezTo>
                  <a:pt x="224" y="696"/>
                  <a:pt x="112" y="548"/>
                  <a:pt x="0" y="4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783400" y="1608120"/>
          <a:ext cx="33336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3400" y="160812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529320" y="2841480"/>
          <a:ext cx="333360" cy="27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2841480"/>
                    <a:ext cx="3333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722680" y="5896080"/>
          <a:ext cx="333360" cy="27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22680" y="589608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934320" y="2809800"/>
          <a:ext cx="1171440" cy="29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2809800"/>
                    <a:ext cx="11714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911240" y="4573440"/>
            <a:ext cx="36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39560" y="420840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,…,N-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73880" y="4570560"/>
            <a:ext cx="21222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9160" y="41832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[N,…,</a:t>
            </a:r>
            <a:r>
              <a:rPr b="0" lang="en-US" sz="2000" spc="-1" strike="noStrike">
                <a:solidFill>
                  <a:srgbClr val="cc3300"/>
                </a:solidFill>
                <a:latin typeface="cmsy10"/>
              </a:rPr>
              <a:t>1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38240" y="4648320"/>
          <a:ext cx="3654360" cy="28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38240" y="4648320"/>
                    <a:ext cx="365436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943600" y="4681440"/>
          <a:ext cx="1447920" cy="21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681440"/>
                    <a:ext cx="144792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941480" y="4994280"/>
          <a:ext cx="3622680" cy="20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41480" y="4994280"/>
                    <a:ext cx="36226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641920" y="3524400"/>
            <a:ext cx="135000" cy="12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ix 1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horizon long enough to r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mielewski and Manousiouthakis (1996)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ative estimate of        .  (                          for double integr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okaert and Rawlings (1998)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-line unti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(N)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2      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xp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rawbacks of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x 1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–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ow long is long enough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016520" y="3181320"/>
          <a:ext cx="4284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3181320"/>
                    <a:ext cx="428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667400" y="3192480"/>
          <a:ext cx="140004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7400" y="3192480"/>
                    <a:ext cx="1400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791240" y="4336920"/>
          <a:ext cx="333360" cy="27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1240" y="4336920"/>
                    <a:ext cx="3333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396120" y="1525680"/>
          <a:ext cx="333360" cy="27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96120" y="152568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ix 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e      as a terminal set constrai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introdu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eerthi and Gilbert (198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ity may be lost because of  “forced” traj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rawbacks of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x 2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–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asibility &amp; Optimality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263760"/>
            <a:ext cx="16765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3340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2959200"/>
            <a:ext cx="1752480" cy="1079280"/>
          </a:xfrm>
          <a:custGeom>
            <a:avLst/>
            <a:gdLst/>
            <a:ahLst/>
            <a:rect l="l" t="t" r="r" b="b"/>
            <a:pathLst>
              <a:path w="1584" h="696">
                <a:moveTo>
                  <a:pt x="1584" y="256"/>
                </a:moveTo>
                <a:cubicBezTo>
                  <a:pt x="1512" y="128"/>
                  <a:pt x="1440" y="0"/>
                  <a:pt x="1248" y="64"/>
                </a:cubicBezTo>
                <a:cubicBezTo>
                  <a:pt x="1056" y="128"/>
                  <a:pt x="640" y="584"/>
                  <a:pt x="432" y="640"/>
                </a:cubicBezTo>
                <a:cubicBezTo>
                  <a:pt x="224" y="696"/>
                  <a:pt x="112" y="548"/>
                  <a:pt x="0" y="4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95680" y="31161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62360" y="347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9040" y="289548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60560" y="1525680"/>
          <a:ext cx="333360" cy="27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0560" y="152568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726160" y="3500280"/>
          <a:ext cx="333360" cy="2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6160" y="3500280"/>
                    <a:ext cx="3333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Receding Horiz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New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Infinite Time Constrained Optimal Control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Grieder, Borrelli, Torrisi, Mor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Stability &amp; Feasibility Analysis of RH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Grieder, Parrilo, Mor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ew Contributio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cc33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Infinite Time Constrained Optimal Control   Synthe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ct comput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icit infinite horizon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bility, feasibility and optimality is guarant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ields maximum positive invariant set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msy10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724280" y="2584440"/>
          <a:ext cx="55260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584440"/>
                    <a:ext cx="5526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ew Contributio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Stability &amp; Feasibility Analysis of RH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rmines stability and feasibility properties of a given contro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certains if the positive invariant set obtained for horizons               is equal to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msy10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ields low complexity contro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62480" y="4084560"/>
          <a:ext cx="1103040" cy="3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2480" y="4084560"/>
                    <a:ext cx="110304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Receding Horiz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) Infinite Time Constrained Optimal Control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ynthesis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Grieder, Borrelli, Torrisi, Mor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Stability &amp; Feasibility Analysis of RH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Grieder, Parrilo, Mor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iteratively applies reachability analysis          and mp-Q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now analyze the algorithm based on the double-integrator examp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finite Time Constrained Optimal Control Synthesi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176720" y="1954080"/>
          <a:ext cx="42876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720" y="1954080"/>
                    <a:ext cx="428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Introduction to Receding Horiz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Infinite Time Constrained Optimal Contro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Grieder, Borrelli, Torrisi, Morar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Stability &amp; Feasibility Analysis of RH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Grieder, Parrilo, Mor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positive invariant set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LQR controller is feasib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Kerrigan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Off-Line Computation of the CLQR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Initializ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940280" y="1603440"/>
          <a:ext cx="333360" cy="27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0280" y="160344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232240" y="4900680"/>
          <a:ext cx="33336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32240" y="490068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explore1" descr=""/>
          <p:cNvPicPr/>
          <p:nvPr/>
        </p:nvPicPr>
        <p:blipFill>
          <a:blip r:embed="rId5"/>
          <a:stretch/>
        </p:blipFill>
        <p:spPr>
          <a:xfrm>
            <a:off x="0" y="2593800"/>
            <a:ext cx="9144000" cy="4264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189840" y="3367080"/>
            <a:ext cx="24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invariant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664320" y="3886200"/>
          <a:ext cx="333360" cy="27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64320" y="388620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>
            <a:off x="4772160" y="3657600"/>
            <a:ext cx="1382400" cy="84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111640" y="5465880"/>
          <a:ext cx="333360" cy="276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11640" y="546588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a “small” step over a fac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Off-Line Computation of the CLQR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tep 1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224320" y="4892760"/>
          <a:ext cx="333360" cy="27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4320" y="489276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explore1" descr=""/>
          <p:cNvPicPr/>
          <p:nvPr/>
        </p:nvPicPr>
        <p:blipFill>
          <a:blip r:embed="rId3"/>
          <a:stretch/>
        </p:blipFill>
        <p:spPr>
          <a:xfrm>
            <a:off x="0" y="2593800"/>
            <a:ext cx="9144000" cy="426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111640" y="5465880"/>
          <a:ext cx="333360" cy="27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1640" y="546588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 flipV="1">
            <a:off x="4984920" y="4025520"/>
            <a:ext cx="490320" cy="36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0760" y="359100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a “small” step over a fac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explore2" descr=""/>
          <p:cNvPicPr/>
          <p:nvPr/>
        </p:nvPicPr>
        <p:blipFill>
          <a:blip r:embed="rId1"/>
          <a:stretch/>
        </p:blipFill>
        <p:spPr>
          <a:xfrm>
            <a:off x="0" y="2593800"/>
            <a:ext cx="9144000" cy="4264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QP with horiz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obtain a 1-step optima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Off-Line Computation of the CLQR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tep 2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111640" y="5465880"/>
          <a:ext cx="333360" cy="27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1640" y="546588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 flipV="1">
            <a:off x="4984920" y="4025520"/>
            <a:ext cx="490320" cy="36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41840" y="2990880"/>
            <a:ext cx="265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computed with horiz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62560" y="4059360"/>
            <a:ext cx="22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”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subset of this region which enters     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achability subs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Off-Line Computation of the CLQR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tep 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462720" y="1603440"/>
          <a:ext cx="333360" cy="27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720" y="160344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explore3" descr=""/>
          <p:cNvPicPr/>
          <p:nvPr/>
        </p:nvPicPr>
        <p:blipFill>
          <a:blip r:embed="rId3"/>
          <a:stretch/>
        </p:blipFill>
        <p:spPr>
          <a:xfrm>
            <a:off x="0" y="2589120"/>
            <a:ext cx="9144000" cy="4268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06400" y="581976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76720" y="4192560"/>
            <a:ext cx="1763640" cy="165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03640" y="5229360"/>
            <a:ext cx="903240" cy="63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27720" y="5854320"/>
            <a:ext cx="645840" cy="21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111640" y="5465880"/>
          <a:ext cx="333360" cy="27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1640" y="546588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5692320" y="3184560"/>
            <a:ext cx="34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ints in the o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enter the red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n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Off-Line Computation of the CLQR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tep 4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23" name="explore4" descr=""/>
          <p:cNvPicPr/>
          <p:nvPr/>
        </p:nvPicPr>
        <p:blipFill>
          <a:blip r:embed="rId1"/>
          <a:stretch/>
        </p:blipFill>
        <p:spPr>
          <a:xfrm>
            <a:off x="0" y="2592360"/>
            <a:ext cx="9144000" cy="42656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points which enter      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eps have been fou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start th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162320" y="1603440"/>
          <a:ext cx="333360" cy="27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62320" y="160344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111640" y="5465880"/>
          <a:ext cx="333360" cy="27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1640" y="546588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gion Exploration for the Double Integrato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021040" y="1927080"/>
            <a:ext cx="48783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msy10"/>
              </a:rPr>
              <a:t>1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– Horizon Algorith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iti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positive invariant 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et the horiz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o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conver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6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cc99"/>
                </a:solidFill>
                <a:latin typeface="Times New Roman"/>
              </a:rPr>
              <a:t>1.</a:t>
            </a:r>
            <a:r>
              <a:rPr b="0" lang="en-GB" sz="20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ve over a fac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6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2.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 QP and use KKT to compute th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6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ute reachability sub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6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l facets were covered, increase the horiz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=N+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6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 goto </a:t>
            </a:r>
            <a:r>
              <a:rPr b="0" lang="en-GB" sz="2000" spc="-1" strike="noStrike">
                <a:solidFill>
                  <a:srgbClr val="00cc99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6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457960" y="1968480"/>
          <a:ext cx="333360" cy="27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57960" y="1968480"/>
                    <a:ext cx="333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msy10"/>
              </a:rPr>
              <a:t>1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– Horizon Algorith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imulation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er than an mp-QP with fixed horiz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Baotic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er than the computatio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okaert and Rawlings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than estima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mielewski and Manousiouthakis (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Comparison of </a:t>
            </a:r>
            <a:r>
              <a:rPr b="0" lang="en-GB" sz="2300" spc="-1" strike="noStrike">
                <a:solidFill>
                  <a:srgbClr val="cc3300"/>
                </a:solidFill>
                <a:latin typeface="Times New Roman"/>
              </a:rPr>
              <a:t>off-line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 computation ti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cmsy10"/>
              </a:rPr>
              <a:t>1</a:t>
            </a:r>
            <a:r>
              <a:rPr b="1" lang="en-GB" sz="23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Times New Roman"/>
              </a:rPr>
              <a:t>is not known in general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un Time Example – Double Integrato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871640" y="2438280"/>
          <a:ext cx="5448240" cy="3306960"/>
        </p:xfrm>
        <a:graphic>
          <a:graphicData uri="http://schemas.openxmlformats.org/drawingml/2006/table">
            <a:tbl>
              <a:tblPr/>
              <a:tblGrid>
                <a:gridCol w="3203640"/>
                <a:gridCol w="224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n-Tim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5 G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cmsy10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– Horizon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5.7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-QP for 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msy10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ondel, Johansen, Bemporad 20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5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t optimiz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-QP for 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msy10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aotic 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8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-QP for 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ll running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Comparison of </a:t>
            </a:r>
            <a:r>
              <a:rPr b="0" lang="en-GB" sz="2300" spc="-1" strike="noStrike">
                <a:solidFill>
                  <a:srgbClr val="cc3300"/>
                </a:solidFill>
                <a:latin typeface="Times New Roman"/>
              </a:rPr>
              <a:t>on-line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 computation ti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Based on 1000 random initial sta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un Time Example – Double Integrato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066680" y="3124080"/>
          <a:ext cx="6400800" cy="1941480"/>
        </p:xfrm>
        <a:graphic>
          <a:graphicData uri="http://schemas.openxmlformats.org/drawingml/2006/table">
            <a:tbl>
              <a:tblPr/>
              <a:tblGrid>
                <a:gridCol w="1916280"/>
                <a:gridCol w="2274840"/>
                <a:gridCol w="2209680"/>
              </a:tblGrid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P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=2</a:t>
                      </a:r>
                      <a:r>
                        <a:rPr b="0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cokaert and Rawlings 199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te Force” Region Iden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5 regions after merg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-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 m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0.84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m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t-Cas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0 m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31  m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457280" y="3544920"/>
          <a:ext cx="1085760" cy="2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544920"/>
                    <a:ext cx="10857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6200" y="1676520"/>
            <a:ext cx="777240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Times New Roman"/>
              </a:rPr>
              <a:t>System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crete Linear Dynamic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aints on the stat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aints on the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edback Control for Constrained Syste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105520" y="2571840"/>
          <a:ext cx="1038240" cy="2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571840"/>
                    <a:ext cx="10382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105520" y="2938320"/>
          <a:ext cx="1000080" cy="2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938320"/>
                    <a:ext cx="10000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100480" y="2217600"/>
          <a:ext cx="2924280" cy="29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0480" y="2217600"/>
                    <a:ext cx="292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46200" y="3537000"/>
            <a:ext cx="790740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Objectives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 feedback law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=f(x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drives the state to the orig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eedback is stabiliz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si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eedback exi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038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the maximum positive invariant set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ty, feasibility and optimality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eding Horizon Contro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back: High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perties of the Infinite-Time Solu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47" name="InfHorizon" descr=""/>
          <p:cNvPicPr/>
          <p:nvPr/>
        </p:nvPicPr>
        <p:blipFill>
          <a:blip r:embed="rId1"/>
          <a:stretch/>
        </p:blipFill>
        <p:spPr>
          <a:xfrm>
            <a:off x="0" y="2849400"/>
            <a:ext cx="914400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perties of the Infinite-Time Solu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03788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the maximum positive invariant set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ty, feasibility and optimality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eding Horizon Contro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back: High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InfHorizon_Merge" descr=""/>
          <p:cNvPicPr/>
          <p:nvPr/>
        </p:nvPicPr>
        <p:blipFill>
          <a:blip r:embed="rId1"/>
          <a:stretch/>
        </p:blipFill>
        <p:spPr>
          <a:xfrm>
            <a:off x="0" y="2867040"/>
            <a:ext cx="9144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Receding Horiz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e Time Constrained Optimal Cont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Grieder, Borrelli, Torrisi, Mor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B) Stability &amp; Feasibility Analysis of RH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Grieder, Parrilo, Mor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Times New Roman"/>
              </a:rPr>
              <a:t>System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crete Linear Dynamic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aints on the stat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aints on the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Times New Roman"/>
              </a:rPr>
              <a:t>Objective</a:t>
            </a: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 a feedback law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u=f(x)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drives the state to the orig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feedback is stabiliz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easi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feedback exi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imes New Roman"/>
              </a:rPr>
              <a:t>Low Complexity</a:t>
            </a:r>
            <a:r>
              <a:rPr b="0" lang="en-GB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cc3300"/>
                </a:solidFill>
                <a:latin typeface="Times New Roman"/>
              </a:rPr>
              <a:t>OPE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edback Control for Constrained Syste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105520" y="2538360"/>
          <a:ext cx="1038240" cy="2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538360"/>
                    <a:ext cx="10382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105520" y="2905200"/>
          <a:ext cx="100008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905200"/>
                    <a:ext cx="10000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100480" y="2195640"/>
          <a:ext cx="292428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0480" y="2195640"/>
                    <a:ext cx="292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ovel Analysis Metho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WA state space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bjectiv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stability &amp; feasibility of 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ut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le &amp; Stable for all tim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s / Can’t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520" y="1284120"/>
            <a:ext cx="8229600" cy="17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Invarianc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</a:t>
            </a:r>
            <a:r>
              <a:rPr b="0" lang="en-US" sz="2400" spc="-1" strike="noStrike">
                <a:solidFill>
                  <a:srgbClr val="000000"/>
                </a:solidFill>
                <a:latin typeface="msbm10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nit cy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the invariant set compu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ig_DI5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 flipV="1">
            <a:off x="3715920" y="3598560"/>
            <a:ext cx="2336760" cy="725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8640" y="380844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easibl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teps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asibil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asibility - Compu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WA partition with regions i=1,..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region i and compute the subsets which enter region j in one ste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3581280"/>
            <a:ext cx="1676520" cy="10670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3962520"/>
            <a:ext cx="1371600" cy="685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581280"/>
            <a:ext cx="167616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4648320"/>
            <a:ext cx="1676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4648320"/>
            <a:ext cx="167616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4102200"/>
            <a:ext cx="1447560" cy="1079280"/>
          </a:xfrm>
          <a:custGeom>
            <a:avLst/>
            <a:gdLst/>
            <a:ahLst/>
            <a:rect l="l" t="t" r="r" b="b"/>
            <a:pathLst>
              <a:path w="912" h="680">
                <a:moveTo>
                  <a:pt x="912" y="56"/>
                </a:moveTo>
                <a:cubicBezTo>
                  <a:pt x="652" y="28"/>
                  <a:pt x="392" y="0"/>
                  <a:pt x="240" y="104"/>
                </a:cubicBezTo>
                <a:cubicBezTo>
                  <a:pt x="88" y="208"/>
                  <a:pt x="44" y="444"/>
                  <a:pt x="0" y="6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22800" y="3505320"/>
            <a:ext cx="69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8880" y="518148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=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8880" y="350532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=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46120" y="518148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=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952880" y="3581280"/>
            <a:ext cx="1676520" cy="10670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952880" y="3580560"/>
            <a:ext cx="1371600" cy="381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3581280"/>
            <a:ext cx="167616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4648320"/>
            <a:ext cx="1676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4648320"/>
            <a:ext cx="167616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asibility - Compu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target regions 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419720" y="3809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4038480"/>
            <a:ext cx="965160" cy="1219320"/>
          </a:xfrm>
          <a:custGeom>
            <a:avLst/>
            <a:gdLst/>
            <a:ahLst/>
            <a:rect l="l" t="t" r="r" b="b"/>
            <a:pathLst>
              <a:path w="608" h="768">
                <a:moveTo>
                  <a:pt x="192" y="0"/>
                </a:moveTo>
                <a:cubicBezTo>
                  <a:pt x="400" y="200"/>
                  <a:pt x="608" y="400"/>
                  <a:pt x="576" y="528"/>
                </a:cubicBezTo>
                <a:cubicBezTo>
                  <a:pt x="544" y="656"/>
                  <a:pt x="272" y="712"/>
                  <a:pt x="0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5280" y="396252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i=1 to j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3962520"/>
            <a:ext cx="1371600" cy="685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4102200"/>
            <a:ext cx="1447560" cy="1079280"/>
          </a:xfrm>
          <a:custGeom>
            <a:avLst/>
            <a:gdLst/>
            <a:ahLst/>
            <a:rect l="l" t="t" r="r" b="b"/>
            <a:pathLst>
              <a:path w="912" h="680">
                <a:moveTo>
                  <a:pt x="912" y="56"/>
                </a:moveTo>
                <a:cubicBezTo>
                  <a:pt x="652" y="28"/>
                  <a:pt x="392" y="0"/>
                  <a:pt x="240" y="104"/>
                </a:cubicBezTo>
                <a:cubicBezTo>
                  <a:pt x="88" y="208"/>
                  <a:pt x="44" y="444"/>
                  <a:pt x="0" y="6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8880" y="350532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=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8880" y="518148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=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6120" y="518148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=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22800" y="3505320"/>
            <a:ext cx="69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 flipV="1">
            <a:off x="4952880" y="3581280"/>
            <a:ext cx="1371600" cy="1067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3581280"/>
            <a:ext cx="838080" cy="1067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52880" y="4648320"/>
            <a:ext cx="1371600" cy="1066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4648320"/>
            <a:ext cx="838080" cy="1066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asibility - Compu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starting regions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resulting union of regions is in general non-convex and might not even be conn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6080" y="350532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6600" y="35053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6600" y="5181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5400" y="5181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962520"/>
            <a:ext cx="1371600" cy="685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6080" y="419112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3581280"/>
            <a:ext cx="304920" cy="1067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24480" y="4648320"/>
            <a:ext cx="30492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3581280"/>
            <a:ext cx="838080" cy="1067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648320"/>
            <a:ext cx="83808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2666880" y="3885840"/>
            <a:ext cx="10670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666880" y="5181480"/>
            <a:ext cx="9907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477120" y="388584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5181480"/>
            <a:ext cx="9907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3327480"/>
            <a:ext cx="1828800" cy="440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part of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sy10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5638680"/>
            <a:ext cx="1828800" cy="440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part of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sy10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3336840"/>
            <a:ext cx="1828800" cy="440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part of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sy10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4320" y="5638680"/>
            <a:ext cx="1828800" cy="440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part of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sy10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 flipV="1">
            <a:off x="4952880" y="3581280"/>
            <a:ext cx="1371600" cy="1067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14800" y="3581280"/>
            <a:ext cx="838080" cy="1067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4648320"/>
            <a:ext cx="1371600" cy="1066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14800" y="4648320"/>
            <a:ext cx="838080" cy="1066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6600" y="35053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16600" y="5181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45400" y="5181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2880" y="3962520"/>
            <a:ext cx="1371600" cy="685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16080" y="419112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3581280"/>
            <a:ext cx="1371600" cy="1067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45400" y="3581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asibility - Compu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2840"/>
            <a:ext cx="79246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 until the partitions conve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gorithm always converg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necessarily in finit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961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olve Finite Time Optimal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                 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d implemen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u(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ceding Horizon Control for Constrained Syste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23920" y="1959120"/>
          <a:ext cx="7099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959120"/>
                    <a:ext cx="7099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673600" y="2611440"/>
          <a:ext cx="99072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3600" y="2611440"/>
                    <a:ext cx="9907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7201080" y="2603520"/>
          <a:ext cx="95220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01080" y="2603520"/>
                    <a:ext cx="9522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85800" y="3813120"/>
            <a:ext cx="780588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mpute the 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imes New Roman"/>
              </a:rPr>
              <a:t>On-Line (MPC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solving a QP of finite size at each time ste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imes New Roman"/>
              </a:rPr>
              <a:t>Off-Line (RHC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using multi-parametric quadratic programming. Results in a piece-wise affine feedback law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u(0)=f(x(0))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ed over polyhedra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(Bemporad, Morari, Dua, Pistikopoulos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ability - Compu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stabilizing quadratic Lyapunov fun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(x)=x’ P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, if the sta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n regio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 set of states for which a feasible feedback law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74880" y="1976400"/>
          <a:ext cx="2904840" cy="2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1976400"/>
                    <a:ext cx="29048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316240" y="2371680"/>
          <a:ext cx="656280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6240" y="2371680"/>
                    <a:ext cx="65628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2057400" y="3244680"/>
          <a:ext cx="3571920" cy="29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244680"/>
                    <a:ext cx="357192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ulated as an L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ion i: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{ x</a:t>
            </a:r>
            <a:r>
              <a:rPr b="0" i="1" lang="en-GB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| 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region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Johansson and Rantzer (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ability - Compu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293920" y="1946160"/>
          <a:ext cx="3559320" cy="2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1946160"/>
                    <a:ext cx="355932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227320" y="2367000"/>
          <a:ext cx="5334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7320" y="2367000"/>
                    <a:ext cx="5334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048120" y="3162240"/>
          <a:ext cx="356220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3162240"/>
                    <a:ext cx="35622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2001960" y="4726080"/>
          <a:ext cx="5057640" cy="2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1960" y="4726080"/>
                    <a:ext cx="50576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143160" y="5100480"/>
          <a:ext cx="3848040" cy="29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43160" y="5100480"/>
                    <a:ext cx="38480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found, the system is exponentially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ension to allow for PWQ Lyapunov functions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(x)=x’Q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+x’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WQ Lyapunov function always exists for solutions computed with horizon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msy10"/>
              </a:rPr>
              <a:t>1 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msy10"/>
              </a:rPr>
              <a:t>	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msy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might not satisfy L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procedure applicable to ANY receding horizon controller, provided an explicit solution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xample – Double Integrato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133720" y="2787480"/>
          <a:ext cx="4724280" cy="3071520"/>
        </p:xfrm>
        <a:graphic>
          <a:graphicData uri="http://schemas.openxmlformats.org/drawingml/2006/table">
            <a:tbl>
              <a:tblPr/>
              <a:tblGrid>
                <a:gridCol w="1041120"/>
                <a:gridCol w="1738440"/>
                <a:gridCol w="1944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inal Set Constra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 of the maximum positive invariant set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xample – 2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Order Syste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 system                                   with constraints |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000000"/>
                </a:solidFill>
                <a:latin typeface="cmsy10"/>
              </a:rPr>
              <a:t>·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000000"/>
                </a:solidFill>
                <a:latin typeface="cmsy10"/>
              </a:rPr>
              <a:t>·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 of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133720" y="2798640"/>
          <a:ext cx="4724280" cy="3071520"/>
        </p:xfrm>
        <a:graphic>
          <a:graphicData uri="http://schemas.openxmlformats.org/drawingml/2006/table">
            <a:tbl>
              <a:tblPr/>
              <a:tblGrid>
                <a:gridCol w="1041120"/>
                <a:gridCol w="1738440"/>
                <a:gridCol w="1944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inal Set Constra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05240" y="1433520"/>
          <a:ext cx="229392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1433520"/>
                    <a:ext cx="22939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Receding Horiz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e Time Constrained Optimal Cont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Grieder, Borrelli, Torrisi, Mor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Stability &amp; Feasibility Analysis of RH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Grieder, Parrilo, Mor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licit infinite horizon controller has been 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ty, Feasibility and Optima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eding Horizon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been made less restrictive with the presented algorit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analysis is far easier with the explicit mp-QP solution, since results from PWA systems can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 and Downloads on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ttp://control.ethz.ch/~gri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-442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ouble Integra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Objective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Constrain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xample  Syste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131920" y="1959120"/>
          <a:ext cx="418140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1920" y="1959120"/>
                    <a:ext cx="4181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758960" y="3484440"/>
          <a:ext cx="522936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8960" y="3484440"/>
                    <a:ext cx="5229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233440" y="5045040"/>
          <a:ext cx="449604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3440" y="5045040"/>
                    <a:ext cx="44960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76976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fig_DI1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1246680"/>
            <a:ext cx="7778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3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1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ceding Horizon Contro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28124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x(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feedback law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(0))=[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=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0)+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optimal input u(0)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fig_DI1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6480" y="4970520"/>
            <a:ext cx="3628080" cy="1771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0.6180   -1.37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0000   -0.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0.0000    0.00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[-0.8997    1.0000    1.00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ceding Horizon Contro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791320" y="4987800"/>
            <a:ext cx="113184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60280" y="4648320"/>
            <a:ext cx="1595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ceding Horizon Contro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1" name="fig_DI2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3556080" y="5524560"/>
            <a:ext cx="1509480" cy="33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09120" y="5635800"/>
            <a:ext cx="1442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1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91320" y="4987800"/>
            <a:ext cx="113184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28124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x(1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feedback law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(1))=[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=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1)+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optimal input u(1)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60280" y="4648320"/>
            <a:ext cx="1595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282680"/>
            <a:ext cx="82296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loop trajectory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ed) an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lue) are not iden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fig_DI3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ceding Horizon Contro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1:40:10Z</dcterms:created>
  <dc:creator>grieder</dc:creator>
  <dc:description/>
  <dc:language>en-US</dc:language>
  <cp:lastModifiedBy>grieder</cp:lastModifiedBy>
  <dcterms:modified xsi:type="dcterms:W3CDTF">2003-01-09T15:09:48Z</dcterms:modified>
  <cp:revision>92</cp:revision>
  <dc:subject/>
  <dc:title>PowerPoint Presentation</dc:title>
</cp:coreProperties>
</file>